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12B-B386-4A11-90DD-8276AB9B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925-47C1-49CD-B055-6640598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98C-D4A8-4193-85A2-4BDF9AA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5BE-8488-4375-8A37-CDE3690A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38F-570E-4CB9-885D-E0EAB2C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07A-B647-4468-A66E-7C22BA9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DCA-E2C4-42F3-BF4E-16F3DAC2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584-6519-4149-87AD-2520BBC6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8F3-7ED3-44E6-B117-AD05941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226-42C0-4D3F-856D-A506516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EB3-7DA8-430F-9702-3319032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347-6508-4D6A-BF50-62DF1443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603A-D1E8-4C85-A082-7F09698B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by Jonathan, Thomas, and Sumerl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0640" y="609480"/>
            <a:ext cx="5562720" cy="34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avie"/>
              </a:rPr>
              <a:t>Pygmalion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avie"/>
              <a:ea typeface="Ravie"/>
            </a:endParaRPr>
          </a:p>
        </p:txBody>
      </p:sp>
      <p:pic>
        <p:nvPicPr>
          <p:cNvPr id="44" name="leprechaun23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3886200" cy="2355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86200" y="1600200"/>
            <a:ext cx="14479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62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th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i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g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fessor of phonetics who transformed Eliza Doo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i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o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or flower girl who is taught proper language and transformed into a duch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k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ike Higgins in that he has an interest in phonetics, but he treats Eliza with more resp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in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fred Doo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liza’s father who cares more for money than hi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Higg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fessor Higgin’s mother who does not approve of hi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ynsford Hill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family of a mother, daughter, and son who appears throughout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Eliza usually wear to slee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r. Doolittle’s excuse for not having mor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gins states that all women are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thinks that Eliza is a Hungarian prin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Eliza throw at Higgins out of frust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does Eliza say she learned self-respect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ack_superman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12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 day clot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ays he can’t affor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omm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sli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el Pick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eird0004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2925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oney does Mr. Doolittle ask in exchange for his daugh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etting married at the end of the boo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re does the play o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6995814_dd1abc37fc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Doo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. Charles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REWTAYLORNIKE150" descr="Traylor, Drew"/>
          <p:cNvPicPr/>
          <p:nvPr/>
        </p:nvPicPr>
        <p:blipFill>
          <a:blip r:embed="rId2"/>
          <a:stretch/>
        </p:blipFill>
        <p:spPr>
          <a:xfrm>
            <a:off x="5257800" y="2133720"/>
            <a:ext cx="218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Story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9051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ory is about the transformation of a young poor flower girl into a girl that was able to pass herself off as a duchess.  Henry Higgins, a professor of phonetics, takes her into his house and teaches her to speak perfect English and present herself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57:34Z</dcterms:created>
  <dc:creator>DU</dc:creator>
  <dc:description/>
  <dc:language>en-US</dc:language>
  <cp:lastModifiedBy>DU</cp:lastModifiedBy>
  <dcterms:modified xsi:type="dcterms:W3CDTF">2006-10-10T19:08:02Z</dcterms:modified>
  <cp:revision>3</cp:revision>
  <dc:subject/>
  <dc:title>PowerPoint Presentation</dc:title>
</cp:coreProperties>
</file>